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693-647F-4410-A954-14EE52D1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3CB-C155-40A4-809F-E4B166C7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387-8E35-4759-A9C2-1B5B4612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44B-C979-42B8-8475-7B8E0669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D1D-1281-4175-BA80-23BEB50D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A45-3A87-470B-A241-02442D77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AF1-B70D-4718-9DE9-785D0023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AE8-24A4-49DC-9E4B-1E2788E2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A9A-2BBC-4010-8ECB-E3A49089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BE2-C11A-418C-BEA6-AA68E357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46E-43C1-497E-BF87-37F63103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6E6-4497-4D79-8D74-20A44B31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514A-9234-43C3-8FE4-7117D764F7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11280" y="620640"/>
            <a:ext cx="77770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Истина должна быть пережита, а не препод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жуан-цз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В игровом мироощущении присутствует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олее глубокая, чем в рассудочном взгляде н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. Эйнштейн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ВАЯ ИГРА  КАК  ЭФФЕКТИВНАЯ ФОРМА ФОРМИРОВАНИЯ И ОТСЛЕЖИВАНИЯ ПРОФЕССИОНАЛЬНОЙ КОМПЕТЕНТНОСТИ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Фиалкина Татьяна Викто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БУ ЦРО г.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7572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подвиг  или матрица успех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rcRect l="0" t="5289" r="0" b="4154"/>
          <a:stretch/>
        </p:blipFill>
        <p:spPr>
          <a:xfrm>
            <a:off x="0" y="1701720"/>
            <a:ext cx="9144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28676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или авгиевы конюш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img1.liveinternet.ru/images/attach/c/4/78/672/78672605_7_1.jpg"/>
          <p:cNvPicPr/>
          <p:nvPr/>
        </p:nvPicPr>
        <p:blipFill>
          <a:blip r:embed="rId2"/>
          <a:srcRect l="0" t="0" r="0" b="6135"/>
          <a:stretch/>
        </p:blipFill>
        <p:spPr>
          <a:xfrm>
            <a:off x="0" y="2448000"/>
            <a:ext cx="913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15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Новый подвиг Герак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253044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riginal_mirror"/>
          <p:cNvPicPr/>
          <p:nvPr/>
        </p:nvPicPr>
        <p:blipFill>
          <a:blip r:embed="rId2"/>
          <a:stretch/>
        </p:blipFill>
        <p:spPr>
          <a:xfrm>
            <a:off x="7451640" y="18900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ндивидуальные 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125360"/>
          <a:ext cx="8064360" cy="4237200"/>
        </p:xfrm>
        <a:graphic>
          <a:graphicData uri="http://schemas.openxmlformats.org/drawingml/2006/table">
            <a:tbl>
              <a:tblPr/>
              <a:tblGrid>
                <a:gridCol w="2808360"/>
                <a:gridCol w="5256000"/>
              </a:tblGrid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Но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тстаивающий предлагаемые инновационные идеи - реш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подвижни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новатору; проникшись идеей новатора, помогает защитить эту идею новатор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Консер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провергающий или подвергающий критике предлагаемые идеи - решения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омневающий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консерватору, осторожно, с опаской относится ко всему новому, обозначает р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611280" y="1689120"/>
            <a:ext cx="778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руппа экспертов - продемонстрировала матрицу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группа экспертов - высказала свое мнение: действительно произошел ли переход начальной школы на ФГОС или пока формально, имитацио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группа  -озвучила проблемы и перспективы развития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690920" y="69228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ступление экспер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408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42960" y="51156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воды, до которых человек додумывается сам, обычно, убеждают его больше, нежели те, которые пришли в голову други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Б. Паска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71680" y="32929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Если Вы хотите иметь то, чего никогда не имели, надо сделать то, чего вы никогда не дела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2225520"/>
            <a:ext cx="87184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755640" y="620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900000" y="795600"/>
            <a:ext cx="73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орма деятельности в условных ситуациях, направл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создание и усвоение общественного опыта, зафиксированного в социально закрепленных способах осуществления предметных действий, в предметах культуры и на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сихологический словар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55640" y="170028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форма деятельности людей, имитирующая те или иные практические ситуации, одно из средств активизации учебного процесса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6"/>
          <p:cNvSpPr/>
          <p:nvPr/>
        </p:nvSpPr>
        <p:spPr>
          <a:xfrm>
            <a:off x="234000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овая иг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619280" y="571680"/>
            <a:ext cx="5616720" cy="847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ия 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633680" y="1643040"/>
            <a:ext cx="5616360" cy="723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ближ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гровых условий к ре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92360" y="2571840"/>
            <a:ext cx="554364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е целостного представления о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714680" y="3571920"/>
            <a:ext cx="554328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билизация опыта,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714680" y="4538520"/>
            <a:ext cx="5543280" cy="75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ая активность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71600" y="2276640"/>
            <a:ext cx="6153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ыноска со стрелкой вниз 4"/>
          <p:cNvSpPr/>
          <p:nvPr/>
        </p:nvSpPr>
        <p:spPr>
          <a:xfrm>
            <a:off x="1857240" y="2000160"/>
            <a:ext cx="5500800" cy="1500120"/>
          </a:xfrm>
          <a:prstGeom prst="downArrowCallout">
            <a:avLst>
              <a:gd name="adj1" fmla="val 24992"/>
              <a:gd name="adj2" fmla="val 25006"/>
              <a:gd name="adj3" fmla="val 25000"/>
              <a:gd name="adj4" fmla="val 6497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комплексны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3203640" y="3570120"/>
            <a:ext cx="26542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-тив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5908680" y="3570120"/>
            <a:ext cx="25210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-чес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00040" y="3570120"/>
            <a:ext cx="264312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0"/>
          <p:cNvSpPr/>
          <p:nvPr/>
        </p:nvSpPr>
        <p:spPr>
          <a:xfrm>
            <a:off x="826920" y="620640"/>
            <a:ext cx="7274160" cy="1295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«Дай человеку рыбу, и он будет сытым один день. Научи человека ловить рыбу, и он будет сытым всю жизнь» (Восточная муд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6"/>
          <p:cNvSpPr/>
          <p:nvPr/>
        </p:nvSpPr>
        <p:spPr>
          <a:xfrm>
            <a:off x="75564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локвиу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1156098-hercules.jpg"/>
          <p:cNvPicPr/>
          <p:nvPr/>
        </p:nvPicPr>
        <p:blipFill>
          <a:blip r:embed="rId2"/>
          <a:stretch/>
        </p:blipFill>
        <p:spPr>
          <a:xfrm>
            <a:off x="6000840" y="500040"/>
            <a:ext cx="2860560" cy="482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28760" y="1700280"/>
            <a:ext cx="6000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Завтра начинается сегодня, или остановка по треб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еловая игра «Герак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ercules_KH.png"/>
          <p:cNvPicPr/>
          <p:nvPr/>
        </p:nvPicPr>
        <p:blipFill>
          <a:blip r:embed="rId2"/>
          <a:stretch/>
        </p:blipFill>
        <p:spPr>
          <a:xfrm>
            <a:off x="5586480" y="2205000"/>
            <a:ext cx="3557520" cy="465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просы для  обсуж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907560"/>
            <a:ext cx="69850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ие подвиги мы уже совершили, в чем прорвались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Чем можем гордиться?  А какие подвиги нам еще предстоит соверши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овы наши перспективы? Что нас ждет в будущем?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А действительно ли произошел  переход на стандарты или пока формально, имитационн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Этапы проведения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гры «Герак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280" y="1916280"/>
            <a:ext cx="838836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хождение в игровую ситу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ственно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ыход из игров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index"/>
          <p:cNvPicPr/>
          <p:nvPr/>
        </p:nvPicPr>
        <p:blipFill>
          <a:blip r:embed="rId2"/>
          <a:stretch/>
        </p:blipFill>
        <p:spPr>
          <a:xfrm>
            <a:off x="6848640" y="3500280"/>
            <a:ext cx="14666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1239353216_1195400938_0lik.ru_hercules_35.jpg"/>
          <p:cNvPicPr/>
          <p:nvPr/>
        </p:nvPicPr>
        <p:blipFill>
          <a:blip r:embed="rId2"/>
          <a:stretch/>
        </p:blipFill>
        <p:spPr>
          <a:xfrm>
            <a:off x="6227640" y="1844640"/>
            <a:ext cx="2048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11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1125360"/>
            <a:ext cx="61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теоретики-анали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диагносты-прак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администраторы- управлен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визуалисты - импровизатор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эксперт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9:34:19Z</dcterms:created>
  <dc:creator>Acer</dc:creator>
  <dc:description/>
  <dc:language>en-US</dc:language>
  <cp:lastModifiedBy>victor</cp:lastModifiedBy>
  <dcterms:modified xsi:type="dcterms:W3CDTF">2018-10-27T12:33:56Z</dcterms:modified>
  <cp:revision>93</cp:revision>
  <dc:subject/>
  <dc:title>Слайд 1</dc:title>
</cp:coreProperties>
</file>